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16F-6E9F-4343-A67E-1FBE2D42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1DE-4C04-4F58-815F-F267BD23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3B3-5AF7-459F-AB2A-775DBF11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567-1FD5-4B2F-8FDD-3DC8A729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1D8-ABF0-4E02-9124-5E6BA3FE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11D-5E13-412F-8EFD-177AF2C3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41D-B30C-4391-9ED0-B40BEB2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8B9-A21B-4657-88B8-C41980D8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77F-6FA4-47FC-A684-830004A6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F6C-2EDE-45ED-AE77-2362E5D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C91-E0CA-42C5-86F7-53A41BF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3F7-FF41-4FE8-AF88-C0F93A9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B18E-C873-4081-A1F3-9AE6A12B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790640"/>
            <a:ext cx="8388360" cy="32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61899" dir="2700000" blurRad="0" rotWithShape="0">
                    <a:srgbClr val="9966ff"/>
                  </a:outerShdw>
                </a:effectLst>
                <a:latin typeface="Arial Black"/>
              </a:rPr>
              <a:t>Plotting Points</a:t>
            </a:r>
            <a:endParaRPr b="0" lang="en-US" sz="1800" spc="1" strike="noStrike">
              <a:ln w="2556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61899" dir="2700000" blurRad="0" rotWithShape="0">
                  <a:srgbClr val="9966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289080" y="-34920"/>
            <a:ext cx="9722160" cy="6892920"/>
            <a:chOff x="-289080" y="-34920"/>
            <a:chExt cx="9722160" cy="6892920"/>
          </a:xfrm>
        </p:grpSpPr>
        <p:grpSp>
          <p:nvGrpSpPr>
            <p:cNvPr id="43" name=""/>
            <p:cNvGrpSpPr/>
            <p:nvPr/>
          </p:nvGrpSpPr>
          <p:grpSpPr>
            <a:xfrm>
              <a:off x="-289080" y="-34920"/>
              <a:ext cx="9722160" cy="6892920"/>
              <a:chOff x="-289080" y="-34920"/>
              <a:chExt cx="9722160" cy="6892920"/>
            </a:xfrm>
          </p:grpSpPr>
          <p:sp>
            <p:nvSpPr>
              <p:cNvPr id="44" name=""/>
              <p:cNvSpPr/>
              <p:nvPr/>
            </p:nvSpPr>
            <p:spPr>
              <a:xfrm>
                <a:off x="-289080" y="6265800"/>
                <a:ext cx="9433080" cy="3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971640" y="217440"/>
                <a:ext cx="0" cy="6632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69236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76360" y="6083280"/>
                <a:ext cx="0" cy="18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13200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85128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72000" y="6083280"/>
                <a:ext cx="0" cy="18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9272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01200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2720" y="612000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416720" y="612000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172360" y="612000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971640" y="5581800"/>
                <a:ext cx="18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0920" y="6085080"/>
                <a:ext cx="0" cy="18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971640" y="4861080"/>
                <a:ext cx="18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969480" y="414180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969480" y="345744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969480" y="270036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969480" y="198108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969480" y="1260360"/>
                <a:ext cx="1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8180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486108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414180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73080" y="342108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73080" y="270036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-73080" y="198108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-73080" y="126036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-73080" y="539640"/>
                <a:ext cx="9433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0920" y="-7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69840" y="-7920"/>
                <a:ext cx="180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92360" y="-7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09840" y="-34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29120" y="-34920"/>
                <a:ext cx="144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51280" y="-34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72000" y="-1584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91280" y="-15840"/>
                <a:ext cx="144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3440" y="-1584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30920" y="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50200" y="0"/>
                <a:ext cx="144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72360" y="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891640" y="-34920"/>
                <a:ext cx="0" cy="6858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-34920" y="5700600"/>
              <a:ext cx="89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-1              1     2       3     4      5      6      7      8      9     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91160" y="973080"/>
              <a:ext cx="354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00" y="6264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01920" y="6264360"/>
              <a:ext cx="3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0760" y="-7920"/>
              <a:ext cx="37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68360" y="4076280"/>
            <a:ext cx="216000" cy="144720"/>
            <a:chOff x="2268360" y="4076280"/>
            <a:chExt cx="216000" cy="144720"/>
          </a:xfrm>
        </p:grpSpPr>
        <p:sp>
          <p:nvSpPr>
            <p:cNvPr id="91" name=""/>
            <p:cNvSpPr/>
            <p:nvPr/>
          </p:nvSpPr>
          <p:spPr>
            <a:xfrm>
              <a:off x="2268360" y="4076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268360" y="4076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976400" y="3645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86520" y="4797000"/>
            <a:ext cx="215640" cy="144720"/>
            <a:chOff x="5186520" y="4797000"/>
            <a:chExt cx="215640" cy="144720"/>
          </a:xfrm>
        </p:grpSpPr>
        <p:sp>
          <p:nvSpPr>
            <p:cNvPr id="95" name=""/>
            <p:cNvSpPr/>
            <p:nvPr/>
          </p:nvSpPr>
          <p:spPr>
            <a:xfrm>
              <a:off x="5186520" y="47973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186520" y="47970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934160" y="43466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1920" y="2606400"/>
            <a:ext cx="216000" cy="144720"/>
            <a:chOff x="4471920" y="2606400"/>
            <a:chExt cx="216000" cy="144720"/>
          </a:xfrm>
        </p:grpSpPr>
        <p:sp>
          <p:nvSpPr>
            <p:cNvPr id="99" name=""/>
            <p:cNvSpPr/>
            <p:nvPr/>
          </p:nvSpPr>
          <p:spPr>
            <a:xfrm>
              <a:off x="4471920" y="26067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471920" y="26064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614840" y="2149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25800" y="3352320"/>
            <a:ext cx="216000" cy="144720"/>
            <a:chOff x="3025800" y="3352320"/>
            <a:chExt cx="216000" cy="144720"/>
          </a:xfrm>
        </p:grpSpPr>
        <p:sp>
          <p:nvSpPr>
            <p:cNvPr id="103" name=""/>
            <p:cNvSpPr/>
            <p:nvPr/>
          </p:nvSpPr>
          <p:spPr>
            <a:xfrm>
              <a:off x="3025800" y="33526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025800" y="33523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68720" y="28954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620040" y="3322440"/>
            <a:ext cx="215640" cy="144720"/>
            <a:chOff x="6620040" y="3322440"/>
            <a:chExt cx="215640" cy="144720"/>
          </a:xfrm>
        </p:grpSpPr>
        <p:sp>
          <p:nvSpPr>
            <p:cNvPr id="107" name=""/>
            <p:cNvSpPr/>
            <p:nvPr/>
          </p:nvSpPr>
          <p:spPr>
            <a:xfrm>
              <a:off x="6620040" y="33228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20040" y="332244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762960" y="2865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8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343640" y="4066920"/>
            <a:ext cx="216000" cy="144720"/>
            <a:chOff x="7343640" y="4066920"/>
            <a:chExt cx="216000" cy="144720"/>
          </a:xfrm>
        </p:grpSpPr>
        <p:sp>
          <p:nvSpPr>
            <p:cNvPr id="111" name=""/>
            <p:cNvSpPr/>
            <p:nvPr/>
          </p:nvSpPr>
          <p:spPr>
            <a:xfrm>
              <a:off x="7343640" y="4067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343640" y="4066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486920" y="3610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9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90840" y="1920600"/>
            <a:ext cx="215640" cy="144720"/>
            <a:chOff x="1590840" y="1920600"/>
            <a:chExt cx="215640" cy="144720"/>
          </a:xfrm>
        </p:grpSpPr>
        <p:sp>
          <p:nvSpPr>
            <p:cNvPr id="115" name=""/>
            <p:cNvSpPr/>
            <p:nvPr/>
          </p:nvSpPr>
          <p:spPr>
            <a:xfrm>
              <a:off x="1590840" y="19209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590840" y="19206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733760" y="14637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-864000" y="-1682640"/>
            <a:ext cx="10008000" cy="9431280"/>
            <a:chOff x="-864000" y="-1682640"/>
            <a:chExt cx="10008000" cy="9431280"/>
          </a:xfrm>
        </p:grpSpPr>
        <p:grpSp>
          <p:nvGrpSpPr>
            <p:cNvPr id="119" name=""/>
            <p:cNvGrpSpPr/>
            <p:nvPr/>
          </p:nvGrpSpPr>
          <p:grpSpPr>
            <a:xfrm>
              <a:off x="-864000" y="-1682640"/>
              <a:ext cx="10008000" cy="9431280"/>
              <a:chOff x="-864000" y="-1682640"/>
              <a:chExt cx="10008000" cy="94312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2555640" y="-1574640"/>
                <a:ext cx="2987640" cy="9144000"/>
                <a:chOff x="2555640" y="-1574640"/>
                <a:chExt cx="2987640" cy="9144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555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987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419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5272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84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16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111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543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0" y="2997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565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700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268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83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4292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3860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34920" y="5553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34920" y="512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-34920" y="468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-36360" y="6848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-36360" y="641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36360" y="5985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44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851280" y="151920"/>
                <a:ext cx="0" cy="6705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5940000" y="-1682640"/>
                <a:ext cx="2987640" cy="9144000"/>
                <a:chOff x="5940000" y="-1682640"/>
                <a:chExt cx="2987640" cy="91440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940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372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03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708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68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100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496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927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-864000" y="-1395360"/>
                <a:ext cx="2987640" cy="9144000"/>
                <a:chOff x="-864000" y="-1395360"/>
                <a:chExt cx="2987640" cy="9144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-864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-43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-36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308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64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296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9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2364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202680" y="3033720"/>
              <a:ext cx="85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    -7    -6   -5   -4    -3   -2    -1           1     2    3     4     5    6     7     8    9    10  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6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69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49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8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72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104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010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6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4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0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334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240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9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65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71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1280" y="2997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1280" y="25686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51280" y="21337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51280" y="4724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51280" y="42958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51280" y="3860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51280" y="59850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1280" y="55562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5121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1280" y="68533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51280" y="64184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51280" y="1700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1280" y="12715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51280" y="836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26160" y="611280"/>
              <a:ext cx="383400" cy="59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31120" y="310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53760" y="34718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34800" y="-63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311640" y="764640"/>
            <a:ext cx="215640" cy="144720"/>
            <a:chOff x="3311640" y="764640"/>
            <a:chExt cx="215640" cy="144720"/>
          </a:xfrm>
        </p:grpSpPr>
        <p:sp>
          <p:nvSpPr>
            <p:cNvPr id="206" name=""/>
            <p:cNvSpPr/>
            <p:nvPr/>
          </p:nvSpPr>
          <p:spPr>
            <a:xfrm>
              <a:off x="3311640" y="76500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311640" y="76464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832360" y="5481360"/>
            <a:ext cx="216000" cy="144720"/>
            <a:chOff x="5832360" y="5481360"/>
            <a:chExt cx="216000" cy="144720"/>
          </a:xfrm>
        </p:grpSpPr>
        <p:sp>
          <p:nvSpPr>
            <p:cNvPr id="209" name=""/>
            <p:cNvSpPr/>
            <p:nvPr/>
          </p:nvSpPr>
          <p:spPr>
            <a:xfrm>
              <a:off x="5832360" y="54817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832360" y="5481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879640" y="5913000"/>
            <a:ext cx="216000" cy="144720"/>
            <a:chOff x="2879640" y="5913000"/>
            <a:chExt cx="216000" cy="144720"/>
          </a:xfrm>
        </p:grpSpPr>
        <p:sp>
          <p:nvSpPr>
            <p:cNvPr id="212" name=""/>
            <p:cNvSpPr/>
            <p:nvPr/>
          </p:nvSpPr>
          <p:spPr>
            <a:xfrm>
              <a:off x="2879640" y="5913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879640" y="5913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448000" y="4220640"/>
            <a:ext cx="216000" cy="144720"/>
            <a:chOff x="2448000" y="4220640"/>
            <a:chExt cx="216000" cy="144720"/>
          </a:xfrm>
        </p:grpSpPr>
        <p:sp>
          <p:nvSpPr>
            <p:cNvPr id="215" name=""/>
            <p:cNvSpPr/>
            <p:nvPr/>
          </p:nvSpPr>
          <p:spPr>
            <a:xfrm>
              <a:off x="2448000" y="4221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448000" y="422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388360" y="5049360"/>
            <a:ext cx="216000" cy="144720"/>
            <a:chOff x="8388360" y="5049360"/>
            <a:chExt cx="216000" cy="144720"/>
          </a:xfrm>
        </p:grpSpPr>
        <p:sp>
          <p:nvSpPr>
            <p:cNvPr id="218" name=""/>
            <p:cNvSpPr/>
            <p:nvPr/>
          </p:nvSpPr>
          <p:spPr>
            <a:xfrm>
              <a:off x="8388360" y="50497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88360" y="5049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19280" y="3355560"/>
            <a:ext cx="216000" cy="144720"/>
            <a:chOff x="1619280" y="3355560"/>
            <a:chExt cx="216000" cy="144720"/>
          </a:xfrm>
        </p:grpSpPr>
        <p:sp>
          <p:nvSpPr>
            <p:cNvPr id="221" name=""/>
            <p:cNvSpPr/>
            <p:nvPr/>
          </p:nvSpPr>
          <p:spPr>
            <a:xfrm>
              <a:off x="1619280" y="335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619280" y="335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743280" y="4220640"/>
            <a:ext cx="216000" cy="144720"/>
            <a:chOff x="3743280" y="4220640"/>
            <a:chExt cx="216000" cy="144720"/>
          </a:xfrm>
        </p:grpSpPr>
        <p:sp>
          <p:nvSpPr>
            <p:cNvPr id="224" name=""/>
            <p:cNvSpPr/>
            <p:nvPr/>
          </p:nvSpPr>
          <p:spPr>
            <a:xfrm>
              <a:off x="3743280" y="4221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743280" y="422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832360" y="2060280"/>
            <a:ext cx="216000" cy="144720"/>
            <a:chOff x="5832360" y="2060280"/>
            <a:chExt cx="216000" cy="144720"/>
          </a:xfrm>
        </p:grpSpPr>
        <p:sp>
          <p:nvSpPr>
            <p:cNvPr id="227" name=""/>
            <p:cNvSpPr/>
            <p:nvPr/>
          </p:nvSpPr>
          <p:spPr>
            <a:xfrm>
              <a:off x="583236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3236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016000" y="2060280"/>
            <a:ext cx="216000" cy="144720"/>
            <a:chOff x="2016000" y="2060280"/>
            <a:chExt cx="216000" cy="144720"/>
          </a:xfrm>
        </p:grpSpPr>
        <p:sp>
          <p:nvSpPr>
            <p:cNvPr id="230" name=""/>
            <p:cNvSpPr/>
            <p:nvPr/>
          </p:nvSpPr>
          <p:spPr>
            <a:xfrm>
              <a:off x="201600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01600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75640" y="16034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8560" y="5049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96360" y="38386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3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81920" y="40640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0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0360" y="27687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5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2440" y="1603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20360" y="550692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2,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39040" y="3938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55920" y="466416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11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-864000" y="-1682640"/>
            <a:ext cx="10008000" cy="9431280"/>
            <a:chOff x="-864000" y="-1682640"/>
            <a:chExt cx="10008000" cy="9431280"/>
          </a:xfrm>
        </p:grpSpPr>
        <p:grpSp>
          <p:nvGrpSpPr>
            <p:cNvPr id="242" name=""/>
            <p:cNvGrpSpPr/>
            <p:nvPr/>
          </p:nvGrpSpPr>
          <p:grpSpPr>
            <a:xfrm>
              <a:off x="-864000" y="-1682640"/>
              <a:ext cx="10008000" cy="9431280"/>
              <a:chOff x="-864000" y="-1682640"/>
              <a:chExt cx="10008000" cy="943128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2555640" y="-1574640"/>
                <a:ext cx="2987640" cy="9144000"/>
                <a:chOff x="2555640" y="-1574640"/>
                <a:chExt cx="2987640" cy="9144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55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987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419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5272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84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1636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1164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543280" y="-1574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0" y="2997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2565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700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26828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83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4292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860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-34920" y="5553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-34920" y="512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-34920" y="468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-36360" y="6848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-36360" y="641664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-36360" y="598500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41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9360"/>
                <a:ext cx="914400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3851280" y="151920"/>
                <a:ext cx="0" cy="6705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5940000" y="-1682640"/>
                <a:ext cx="2987640" cy="9144000"/>
                <a:chOff x="5940000" y="-1682640"/>
                <a:chExt cx="2987640" cy="91440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940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372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03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23708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668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0072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49600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27640" y="-168264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-864000" y="-1395360"/>
                <a:ext cx="2987640" cy="9144000"/>
                <a:chOff x="-864000" y="-1395360"/>
                <a:chExt cx="2987640" cy="9144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-864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-43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-36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3308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64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9672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9200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3640" y="-1395360"/>
                  <a:ext cx="0" cy="914400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202680" y="3033720"/>
              <a:ext cx="85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    -7    -6   -5   -4    -3   -2    -1           1     2    3     4     5    6     7     8    9    10  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16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069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9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8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723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104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0108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32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62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941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847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017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334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2400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2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65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7160" y="3321000"/>
              <a:ext cx="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51280" y="2997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51280" y="25686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51280" y="21337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51280" y="4724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51280" y="42958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51280" y="3860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51280" y="598500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51280" y="55562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1280" y="512136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1280" y="68533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1280" y="64184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1280" y="170028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51280" y="127152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1280" y="836640"/>
              <a:ext cx="10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6160" y="611280"/>
              <a:ext cx="383400" cy="59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31120" y="310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53760" y="34718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34800" y="-63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79640" y="1195200"/>
            <a:ext cx="216000" cy="144720"/>
            <a:chOff x="2879640" y="1195200"/>
            <a:chExt cx="216000" cy="144720"/>
          </a:xfrm>
        </p:grpSpPr>
        <p:sp>
          <p:nvSpPr>
            <p:cNvPr id="329" name=""/>
            <p:cNvSpPr/>
            <p:nvPr/>
          </p:nvSpPr>
          <p:spPr>
            <a:xfrm>
              <a:off x="2879640" y="119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879640" y="11952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832360" y="4220640"/>
            <a:ext cx="216000" cy="144720"/>
            <a:chOff x="5832360" y="4220640"/>
            <a:chExt cx="216000" cy="144720"/>
          </a:xfrm>
        </p:grpSpPr>
        <p:sp>
          <p:nvSpPr>
            <p:cNvPr id="332" name=""/>
            <p:cNvSpPr/>
            <p:nvPr/>
          </p:nvSpPr>
          <p:spPr>
            <a:xfrm>
              <a:off x="5832360" y="42210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832360" y="422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4000" y="5049360"/>
            <a:ext cx="215640" cy="144720"/>
            <a:chOff x="324000" y="5049360"/>
            <a:chExt cx="215640" cy="144720"/>
          </a:xfrm>
        </p:grpSpPr>
        <p:sp>
          <p:nvSpPr>
            <p:cNvPr id="335" name=""/>
            <p:cNvSpPr/>
            <p:nvPr/>
          </p:nvSpPr>
          <p:spPr>
            <a:xfrm>
              <a:off x="324000" y="504972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24000" y="50493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016000" y="4615920"/>
            <a:ext cx="216000" cy="144720"/>
            <a:chOff x="2016000" y="4615920"/>
            <a:chExt cx="216000" cy="144720"/>
          </a:xfrm>
        </p:grpSpPr>
        <p:sp>
          <p:nvSpPr>
            <p:cNvPr id="338" name=""/>
            <p:cNvSpPr/>
            <p:nvPr/>
          </p:nvSpPr>
          <p:spPr>
            <a:xfrm>
              <a:off x="2016000" y="4616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016000" y="461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561440" y="4615920"/>
            <a:ext cx="215640" cy="144720"/>
            <a:chOff x="7561440" y="4615920"/>
            <a:chExt cx="215640" cy="144720"/>
          </a:xfrm>
        </p:grpSpPr>
        <p:sp>
          <p:nvSpPr>
            <p:cNvPr id="341" name=""/>
            <p:cNvSpPr/>
            <p:nvPr/>
          </p:nvSpPr>
          <p:spPr>
            <a:xfrm>
              <a:off x="7561440" y="461628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61440" y="461592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76720" y="3355560"/>
            <a:ext cx="215640" cy="144720"/>
            <a:chOff x="3276720" y="3355560"/>
            <a:chExt cx="215640" cy="144720"/>
          </a:xfrm>
        </p:grpSpPr>
        <p:sp>
          <p:nvSpPr>
            <p:cNvPr id="344" name=""/>
            <p:cNvSpPr/>
            <p:nvPr/>
          </p:nvSpPr>
          <p:spPr>
            <a:xfrm>
              <a:off x="3276720" y="335592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276720" y="3355560"/>
              <a:ext cx="21564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743280" y="5481360"/>
            <a:ext cx="216000" cy="144720"/>
            <a:chOff x="3743280" y="5481360"/>
            <a:chExt cx="216000" cy="144720"/>
          </a:xfrm>
        </p:grpSpPr>
        <p:sp>
          <p:nvSpPr>
            <p:cNvPr id="347" name=""/>
            <p:cNvSpPr/>
            <p:nvPr/>
          </p:nvSpPr>
          <p:spPr>
            <a:xfrm>
              <a:off x="3743280" y="54817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743280" y="54813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998960" y="1195200"/>
            <a:ext cx="216000" cy="144720"/>
            <a:chOff x="4998960" y="1195200"/>
            <a:chExt cx="216000" cy="144720"/>
          </a:xfrm>
        </p:grpSpPr>
        <p:sp>
          <p:nvSpPr>
            <p:cNvPr id="350" name=""/>
            <p:cNvSpPr/>
            <p:nvPr/>
          </p:nvSpPr>
          <p:spPr>
            <a:xfrm>
              <a:off x="4998960" y="119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998960" y="119520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57080" y="2060280"/>
            <a:ext cx="216000" cy="144720"/>
            <a:chOff x="757080" y="2060280"/>
            <a:chExt cx="216000" cy="144720"/>
          </a:xfrm>
        </p:grpSpPr>
        <p:sp>
          <p:nvSpPr>
            <p:cNvPr id="353" name=""/>
            <p:cNvSpPr/>
            <p:nvPr/>
          </p:nvSpPr>
          <p:spPr>
            <a:xfrm>
              <a:off x="75708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5708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946760" y="811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6680" y="3835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5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9640" y="423216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4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21480" y="5095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0,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81720" y="3429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1720" y="1628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7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6000" y="466416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8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30800" y="738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-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79280" y="4184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9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672240" y="2060280"/>
            <a:ext cx="216000" cy="144720"/>
            <a:chOff x="6672240" y="2060280"/>
            <a:chExt cx="216000" cy="144720"/>
          </a:xfrm>
        </p:grpSpPr>
        <p:sp>
          <p:nvSpPr>
            <p:cNvPr id="365" name=""/>
            <p:cNvSpPr/>
            <p:nvPr/>
          </p:nvSpPr>
          <p:spPr>
            <a:xfrm>
              <a:off x="6672240" y="206064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672240" y="206028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72400" y="16034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7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003640" y="3355560"/>
            <a:ext cx="216000" cy="144720"/>
            <a:chOff x="5003640" y="3355560"/>
            <a:chExt cx="216000" cy="144720"/>
          </a:xfrm>
        </p:grpSpPr>
        <p:sp>
          <p:nvSpPr>
            <p:cNvPr id="369" name=""/>
            <p:cNvSpPr/>
            <p:nvPr/>
          </p:nvSpPr>
          <p:spPr>
            <a:xfrm>
              <a:off x="5003640" y="335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003640" y="335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784760" y="3429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743280" y="2455560"/>
            <a:ext cx="216000" cy="144720"/>
            <a:chOff x="3743280" y="2455560"/>
            <a:chExt cx="216000" cy="144720"/>
          </a:xfrm>
        </p:grpSpPr>
        <p:sp>
          <p:nvSpPr>
            <p:cNvPr id="373" name=""/>
            <p:cNvSpPr/>
            <p:nvPr/>
          </p:nvSpPr>
          <p:spPr>
            <a:xfrm>
              <a:off x="3743280" y="245592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743280" y="2455560"/>
              <a:ext cx="216000" cy="144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948040" y="2251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 Black"/>
              </a:rPr>
              <a:t>(0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22:52:37Z</dcterms:created>
  <dc:creator>T MADAS</dc:creator>
  <dc:description/>
  <dc:language>en-US</dc:language>
  <cp:lastModifiedBy>Trifon</cp:lastModifiedBy>
  <dcterms:modified xsi:type="dcterms:W3CDTF">2003-11-11T15:53:49Z</dcterms:modified>
  <cp:revision>3</cp:revision>
  <dc:subject/>
  <dc:title>Slide 1</dc:title>
</cp:coreProperties>
</file>